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751-65DA-497E-B39E-2289D453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0EC-F6E2-47EA-8A58-70B32155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530-5F32-4636-A7EE-56007298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550-BC33-49A0-BFD7-31B54709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521-EDBD-4430-8F0A-55996D03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E4C-2C35-4506-9A6D-1F031BC9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FC3-C5B7-4B53-BD74-6179AC1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AC3-6846-4FCD-B809-69572BD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FC9-3019-4FE0-A08F-713DC36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9FC-8BC2-48D9-9966-D4EC20B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152-D65D-4C38-9534-5C448EB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E6B-F6EF-4989-B72B-BDB57C4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547D-4762-4114-8BDF-3E3540930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ary Probes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k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90512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5909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22680" y="61722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4840" y="2286000"/>
            <a:ext cx="22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os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i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8672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1008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38640" y="62136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wmass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napsatconf" descr=""/>
          <p:cNvPicPr/>
          <p:nvPr/>
        </p:nvPicPr>
        <p:blipFill>
          <a:blip r:embed="rId1"/>
          <a:stretch/>
        </p:blipFill>
        <p:spPr>
          <a:xfrm>
            <a:off x="0" y="457200"/>
            <a:ext cx="4249800" cy="6400800"/>
          </a:xfrm>
          <a:prstGeom prst="rect">
            <a:avLst/>
          </a:prstGeom>
          <a:ln w="0">
            <a:noFill/>
          </a:ln>
        </p:spPr>
      </p:pic>
      <p:pic>
        <p:nvPicPr>
          <p:cNvPr id="75" name="snap01_idl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5257800" cy="3755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3962520" y="35049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13560" y="5981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oliath, 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nap02_idl" descr=""/>
          <p:cNvPicPr/>
          <p:nvPr/>
        </p:nvPicPr>
        <p:blipFill>
          <a:blip r:embed="rId1"/>
          <a:stretch/>
        </p:blipFill>
        <p:spPr>
          <a:xfrm>
            <a:off x="565200" y="56520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21000" y="42228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SNAP Sensitivity 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nap07-10_idl_short" descr=""/>
          <p:cNvPicPr/>
          <p:nvPr/>
        </p:nvPicPr>
        <p:blipFill>
          <a:blip r:embed="rId1"/>
          <a:stretch/>
        </p:blipFill>
        <p:spPr>
          <a:xfrm>
            <a:off x="565200" y="56520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2040" y="38088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P Sensitivity to Varying DE 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6560" y="6232680"/>
            <a:ext cx="235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+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ngQK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4" name="eqn1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2911680" cy="849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6200" y="4222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6172200"/>
            <a:ext cx="24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i, Stebbins, Bur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760" y="331776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9480" y="2590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3317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2514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7760" y="4765680"/>
            <a:ext cx="32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ally isotr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: radia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e size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eqn2" descr=""/>
          <p:cNvPicPr/>
          <p:nvPr/>
        </p:nvPicPr>
        <p:blipFill>
          <a:blip r:embed="rId1"/>
          <a:stretch/>
        </p:blipFill>
        <p:spPr>
          <a:xfrm>
            <a:off x="1066680" y="2460600"/>
            <a:ext cx="6858000" cy="197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67680" y="803160"/>
            <a:ext cx="81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man-alpha forest:  absorbing gas along LOS to distant Quas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ong line of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41972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orrelations between near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f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41148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ig3" descr=""/>
          <p:cNvPicPr/>
          <p:nvPr/>
        </p:nvPicPr>
        <p:blipFill>
          <a:blip r:embed="rId1"/>
          <a:stretch/>
        </p:blipFill>
        <p:spPr>
          <a:xfrm>
            <a:off x="2819520" y="558720"/>
            <a:ext cx="6076800" cy="572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5720" y="270000"/>
            <a:ext cx="32911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an Digital Sky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edshift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ous Red Gala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 ~ 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tsubara &amp; Sza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eak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257880" cy="6705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8000" y="422280"/>
            <a:ext cx="27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B Anisotro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to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ttering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at_w.CMB.SNAP_Fisher" descr=""/>
          <p:cNvPicPr/>
          <p:nvPr/>
        </p:nvPicPr>
        <p:blipFill>
          <a:blip r:embed="rId1"/>
          <a:stretch/>
        </p:blipFill>
        <p:spPr>
          <a:xfrm>
            <a:off x="696960" y="176040"/>
            <a:ext cx="775008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igure1" descr=""/>
          <p:cNvPicPr/>
          <p:nvPr/>
        </p:nvPicPr>
        <p:blipFill>
          <a:blip r:embed="rId1"/>
          <a:stretch/>
        </p:blipFill>
        <p:spPr>
          <a:xfrm>
            <a:off x="704880" y="257040"/>
            <a:ext cx="7734240" cy="634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84600" y="498600"/>
            <a:ext cx="55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Angular clustering as prob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4240" y="617220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ray, Hu, Huterer, Joff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vol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105" name="allinonec" descr=""/>
          <p:cNvPicPr/>
          <p:nvPr/>
        </p:nvPicPr>
        <p:blipFill>
          <a:blip r:embed="rId2"/>
          <a:stretch/>
        </p:blipFill>
        <p:spPr>
          <a:xfrm>
            <a:off x="0" y="13716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85320" y="57456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 as a function of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4640" y="6213600"/>
            <a:ext cx="63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volume at moderate red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50360" y="803160"/>
            <a:ext cx="698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story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 Cosmology is litt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`detections’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later evapo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(and woman) cannot live by Supernova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ications of Dark Energy are so profoun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Ne Ia results must be confirmed/exten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independent method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 systematic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 cosmological parameter degenera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smic Microwave Background is not a panac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limited sensitivity to Dark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ltipaperc" descr=""/>
          <p:cNvPicPr/>
          <p:nvPr/>
        </p:nvPicPr>
        <p:blipFill>
          <a:blip r:embed="rId1"/>
          <a:stretch/>
        </p:blipFill>
        <p:spPr>
          <a:xfrm>
            <a:off x="0" y="1219320"/>
            <a:ext cx="4957920" cy="4957560"/>
          </a:xfrm>
          <a:prstGeom prst="rect">
            <a:avLst/>
          </a:prstGeom>
          <a:ln w="0">
            <a:noFill/>
          </a:ln>
        </p:spPr>
      </p:pic>
      <p:pic>
        <p:nvPicPr>
          <p:cNvPr id="109" name="mat_w.halos" descr=""/>
          <p:cNvPicPr/>
          <p:nvPr/>
        </p:nvPicPr>
        <p:blipFill>
          <a:blip r:embed="rId2"/>
          <a:stretch/>
        </p:blipFill>
        <p:spPr>
          <a:xfrm>
            <a:off x="4724280" y="2101680"/>
            <a:ext cx="4419720" cy="371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1680" y="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Galaxy Dark Matter Halo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Redshif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320" y="643896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ewman &amp; Davis                                                                                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39600" y="914400"/>
            <a:ext cx="631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000 galaxies at z ~ 1 with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widths (rotation spe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3200" y="5653080"/>
            <a:ext cx="31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NB: must probe Dark mat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dominated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growth_norm" descr=""/>
          <p:cNvPicPr/>
          <p:nvPr/>
        </p:nvPicPr>
        <p:blipFill>
          <a:blip r:embed="rId1"/>
          <a:stretch/>
        </p:blipFill>
        <p:spPr>
          <a:xfrm>
            <a:off x="1143000" y="39060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0640" y="42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Density Perturb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2720" y="6286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8120" y="217476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en or w &gt;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3320" y="171144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4120" y="8794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at, matter-do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562360" y="1143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Clusters of Galax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23200" y="2251080"/>
            <a:ext cx="41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yaev Zel’dovich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 emission from cluster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MHeqn1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556272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HMHeqn2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610480" cy="86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53080" y="5105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400" y="5181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3760" y="64008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086600" y="6248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mlim-sz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772320" cy="677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480" y="5851440"/>
            <a:ext cx="18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m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er, M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2890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masslimserrs" descr=""/>
          <p:cNvPicPr/>
          <p:nvPr/>
        </p:nvPicPr>
        <p:blipFill>
          <a:blip r:embed="rId1"/>
          <a:stretch/>
        </p:blipFill>
        <p:spPr>
          <a:xfrm>
            <a:off x="2179800" y="457200"/>
            <a:ext cx="6964200" cy="585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78160" y="232740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 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01120" y="40035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87120" y="47656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4320" y="345960"/>
            <a:ext cx="203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360" y="61372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ffre, Fri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w_om_new" descr=""/>
          <p:cNvPicPr/>
          <p:nvPr/>
        </p:nvPicPr>
        <p:blipFill>
          <a:blip r:embed="rId1"/>
          <a:stretch/>
        </p:blipFill>
        <p:spPr>
          <a:xfrm>
            <a:off x="2523960" y="237960"/>
            <a:ext cx="6620040" cy="662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3600" y="422280"/>
            <a:ext cx="227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,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ya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l’dov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9920" y="6286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, Carlstrom, 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HMH2-f2" descr=""/>
          <p:cNvPicPr/>
          <p:nvPr/>
        </p:nvPicPr>
        <p:blipFill>
          <a:blip r:embed="rId1"/>
          <a:stretch/>
        </p:blipFill>
        <p:spPr>
          <a:xfrm>
            <a:off x="25146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2440" y="422280"/>
            <a:ext cx="31482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000 sq. d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6200" y="64738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, Haiman, Mo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Lensing:Number Cts of Background Galax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520" y="61722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1828800" y="1901160"/>
            <a:ext cx="546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(per .5 m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numcounts_all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5257800" cy="518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160020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9092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358128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57200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2880" y="1600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28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288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5638680"/>
            <a:ext cx="412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56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638680"/>
            <a:ext cx="412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360" y="5089680"/>
            <a:ext cx="30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: extra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DSS lumin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w/o me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sslimserrs" descr=""/>
          <p:cNvPicPr/>
          <p:nvPr/>
        </p:nvPicPr>
        <p:blipFill>
          <a:blip r:embed="rId1"/>
          <a:stretch/>
        </p:blipFill>
        <p:spPr>
          <a:xfrm>
            <a:off x="2179800" y="457200"/>
            <a:ext cx="6964200" cy="5850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78160" y="232740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 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1120" y="40035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87120" y="47656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680" y="422280"/>
            <a:ext cx="224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/N &gt; 5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tur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N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py%20of%203266totalmass" descr=""/>
          <p:cNvPicPr/>
          <p:nvPr/>
        </p:nvPicPr>
        <p:blipFill>
          <a:blip r:embed="rId1"/>
          <a:stretch/>
        </p:blipFill>
        <p:spPr>
          <a:xfrm>
            <a:off x="1324080" y="176040"/>
            <a:ext cx="6495840" cy="650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7520" y="422280"/>
            <a:ext cx="117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720" y="56358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Joff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y Iss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0512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0" y="2457360"/>
            <a:ext cx="703728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Dark Energy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ll the SNe results hol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nature of the Dark Ener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i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w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ol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rk Energy dynamic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 Detected Clusters dn/dz per sq.d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8360" y="6172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49680" y="292176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/dz per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ewdndz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867640" cy="515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53920" y="1981080"/>
            <a:ext cx="52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6560" y="3276720"/>
            <a:ext cx="40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8840" y="4572000"/>
            <a:ext cx="29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920" y="5791320"/>
            <a:ext cx="33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43800" y="1219320"/>
            <a:ext cx="941040" cy="1236960"/>
            <a:chOff x="7543800" y="1219320"/>
            <a:chExt cx="941040" cy="1236960"/>
          </a:xfrm>
        </p:grpSpPr>
        <p:sp>
          <p:nvSpPr>
            <p:cNvPr id="187" name=""/>
            <p:cNvSpPr/>
            <p:nvPr/>
          </p:nvSpPr>
          <p:spPr>
            <a:xfrm>
              <a:off x="7544520" y="1219320"/>
              <a:ext cx="8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D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43800" y="16765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R=27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44520" y="2057400"/>
              <a:ext cx="74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=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newnvz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277400" cy="6238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07720" y="103176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; 20,000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(co-added LSST or 1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wide-field SN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7400" y="3241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; 16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3200" y="4384800"/>
            <a:ext cx="18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00 sq.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4400" y="650880"/>
            <a:ext cx="29984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marginalize 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99320" y="362268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nominal SN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S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megvw-newallplus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6696360" cy="608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01120" y="4842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4320" y="270000"/>
            <a:ext cx="257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ky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megvw-newv" descr=""/>
          <p:cNvPicPr/>
          <p:nvPr/>
        </p:nvPicPr>
        <p:blipFill>
          <a:blip r:embed="rId1"/>
          <a:stretch/>
        </p:blipFill>
        <p:spPr>
          <a:xfrm>
            <a:off x="2685960" y="380880"/>
            <a:ext cx="6458040" cy="606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6560" y="498600"/>
            <a:ext cx="299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Weak Len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in Da No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in Da F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count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zzines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lim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W concen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8760" y="640080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re is more information to be used than N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k_l" descr=""/>
          <p:cNvPicPr/>
          <p:nvPr/>
        </p:nvPicPr>
        <p:blipFill>
          <a:blip r:embed="rId1"/>
          <a:stretch/>
        </p:blipFill>
        <p:spPr>
          <a:xfrm>
            <a:off x="2362320" y="1100160"/>
            <a:ext cx="6781680" cy="545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1600" y="34596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: Large-scal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480" y="1793880"/>
            <a:ext cx="188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sq. d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 ~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00sqdeg_27mag" descr=""/>
          <p:cNvPicPr/>
          <p:nvPr/>
        </p:nvPicPr>
        <p:blipFill>
          <a:blip r:embed="rId1"/>
          <a:stretch/>
        </p:blipFill>
        <p:spPr>
          <a:xfrm>
            <a:off x="1189080" y="353880"/>
            <a:ext cx="7954920" cy="6504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7000" y="422280"/>
            <a:ext cx="4921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sq.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~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eat: systematics in low S/N 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mat_w.CMB.SNAP_Fisher" descr=""/>
          <p:cNvPicPr/>
          <p:nvPr/>
        </p:nvPicPr>
        <p:blipFill>
          <a:blip r:embed="rId1"/>
          <a:stretch/>
        </p:blipFill>
        <p:spPr>
          <a:xfrm>
            <a:off x="696960" y="176040"/>
            <a:ext cx="7750080" cy="650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H="1" flipV="1">
            <a:off x="2209320" y="45720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99480" y="4613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162920" y="43434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04280" y="438480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2327400"/>
            <a:ext cx="685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robes of Dark Energy, including S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mature over the next 5-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confirmation of Dark Energy is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spects for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the nature of the Dark Energy,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systematics and nearly `orthogonal’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enerac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Effects of Dark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Teqn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629400" cy="234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2840" y="15238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affects expansion rate of the Uni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3960" y="46483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080" y="541008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may also interact: long-rang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2160" y="62103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r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bservables: probing 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8280" y="2133720"/>
            <a:ext cx="952884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uminosity distance vs. redshift: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cc00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(z)    m(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ndard candles: SN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ngular diameter distance vs. z:  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cc00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(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cock-Paczynski test: Ly-alpha forest; redshift 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umber counts vs. redshift:     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N(M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b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*Comoving Volume element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dV/dzd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*Growth rate of density perturbations  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(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s of galaxy halos and of clusters; QSO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60320" y="1079640"/>
            <a:ext cx="68727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Distance:                   r(z)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x/H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lat Uni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osity Distance: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 = r(z)(1+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 Distance: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 = r(z)/(1+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Volume Element:      dV/dz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/H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ragan.sens2" descr=""/>
          <p:cNvPicPr/>
          <p:nvPr/>
        </p:nvPicPr>
        <p:blipFill>
          <a:blip r:embed="rId1"/>
          <a:stretch/>
        </p:blipFill>
        <p:spPr>
          <a:xfrm>
            <a:off x="1028880" y="154080"/>
            <a:ext cx="7086600" cy="654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22680" y="650880"/>
            <a:ext cx="49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to Dark Energy equ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35240" y="21747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1080" y="3733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65480" y="62866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magdiff.2parms" descr=""/>
          <p:cNvPicPr/>
          <p:nvPr/>
        </p:nvPicPr>
        <p:blipFill>
          <a:blip r:embed="rId1"/>
          <a:stretch/>
        </p:blipFill>
        <p:spPr>
          <a:xfrm>
            <a:off x="554040" y="165240"/>
            <a:ext cx="803592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0040" y="2631960"/>
            <a:ext cx="59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contours depend on priors assum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osmologica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depend on projected stat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/igno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1T23:17:38Z</dcterms:created>
  <dc:creator>Michael Joffre</dc:creator>
  <dc:description/>
  <dc:language>en-US</dc:language>
  <cp:lastModifiedBy>Guest</cp:lastModifiedBy>
  <dcterms:modified xsi:type="dcterms:W3CDTF">2001-07-16T21:15:34Z</dcterms:modified>
  <cp:revision>54</cp:revision>
  <dc:subject/>
  <dc:title>Prospects for Future Weak Lensing Cluster Surveys</dc:title>
</cp:coreProperties>
</file>