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D2C1-9799-44C5-8EB0-902211E6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410-935C-4B52-8812-799CC9AE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D39-477B-4915-9676-DB972E83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051D-6B23-4EDC-B67E-11456F8A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3E5-36D8-45A6-B92F-B2946F8C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647-F527-4203-877B-3E248B7D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B7E-CF6B-48DB-B320-58F64D80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EFD-37CC-47AD-B44D-9F2ED863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95F-E476-4B6D-B904-2064E321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543-53D3-40E2-B766-DDE957D6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C8A-95A4-4AAF-B460-F32B40AD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AC3-C5FB-41D7-AAA5-AB69F28F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808D-F298-4275-8C4A-3AA2CC410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ents on Dark Energy Experi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259056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 Mck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14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0920" y="4384800"/>
            <a:ext cx="480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comments o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cary lensing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on survey dep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asurements of dark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133360"/>
            <a:ext cx="58291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coun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ray selection: Flux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 surveys: redshift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ing surveys: clean mass sele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surveys (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xy LSS from spectroscopic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lensing power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ular diameter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lensing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minosity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Ia S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53316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to worry abou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of statistical astronomy, large samples are not a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ystematics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ll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 all these experimen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Predictions must include estimates of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coun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thresholds, cluster evolut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as, selection functio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lens surve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effects, halo profiles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ensing_strength_slices" descr=""/>
          <p:cNvPicPr/>
          <p:nvPr/>
        </p:nvPicPr>
        <p:blipFill>
          <a:blip r:embed="rId1"/>
          <a:stretch/>
        </p:blipFill>
        <p:spPr>
          <a:xfrm>
            <a:off x="487440" y="1127160"/>
            <a:ext cx="5761080" cy="7407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7440" y="270000"/>
            <a:ext cx="50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n example from lensing, mass sca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4495680"/>
            <a:ext cx="1218960" cy="23623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838080"/>
            <a:ext cx="1219320" cy="23623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304920" cy="13716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4952880"/>
            <a:ext cx="304560" cy="14479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8291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prediction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1828800"/>
            <a:ext cx="5829120" cy="62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e will play a key ro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ed dark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physics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atics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mquist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ing mag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720" y="644220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or sp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080" y="228600"/>
            <a:ext cx="413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Comparison of ground and space based optical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333440"/>
            <a:ext cx="595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e have completed detailed comparisons of ground based and space based optical surveys from first princi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ary Bernstein, 2001, submitted to P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alculations for PSF phot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cludes undersampled and dithered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cludes cosmic ray r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cludes intra-pixel sensitivity variations (10% gut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alculated for point source and galaxy phot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termines astrometric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termines galaxy shap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040" y="5715000"/>
            <a:ext cx="6112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llows us to answer some commonly arising questions about imaging strategies: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What amount of dithering is idea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What pixel size optimizes the productivity of a camer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Which is more efficient; space-based or ground-based observ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LSSTvsSNAPbright" descr=""/>
          <p:cNvPicPr/>
          <p:nvPr/>
        </p:nvPicPr>
        <p:blipFill>
          <a:blip r:embed="rId1"/>
          <a:stretch/>
        </p:blipFill>
        <p:spPr>
          <a:xfrm>
            <a:off x="152280" y="1897200"/>
            <a:ext cx="6561360" cy="6561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57600" y="4267080"/>
            <a:ext cx="152280" cy="152640"/>
          </a:xfrm>
          <a:prstGeom prst="irregularSeal2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6324480"/>
            <a:ext cx="152280" cy="152640"/>
          </a:xfrm>
          <a:prstGeom prst="irregularSeal2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5334120"/>
            <a:ext cx="152280" cy="152280"/>
          </a:xfrm>
          <a:prstGeom prst="irregularSeal2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7010280"/>
            <a:ext cx="152280" cy="152640"/>
          </a:xfrm>
          <a:prstGeom prst="irregularSeal2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8880" y="61722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z=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4419720"/>
            <a:ext cx="838440" cy="914400"/>
          </a:xfrm>
          <a:prstGeom prst="line">
            <a:avLst/>
          </a:prstGeom>
          <a:ln w="93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6477120"/>
            <a:ext cx="609840" cy="609480"/>
          </a:xfrm>
          <a:prstGeom prst="line">
            <a:avLst/>
          </a:prstGeom>
          <a:ln w="93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5410080"/>
            <a:ext cx="152640" cy="152640"/>
          </a:xfrm>
          <a:prstGeom prst="irregularSeal2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7391520"/>
            <a:ext cx="152640" cy="152280"/>
          </a:xfrm>
          <a:prstGeom prst="irregularSeal2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4419720"/>
            <a:ext cx="152280" cy="9144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6477120"/>
            <a:ext cx="152280" cy="9144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429000"/>
            <a:ext cx="152640" cy="152280"/>
          </a:xfrm>
          <a:prstGeom prst="irregularSeal2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4343400"/>
            <a:ext cx="152640" cy="152280"/>
          </a:xfrm>
          <a:prstGeom prst="irregularSeal2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4495680"/>
            <a:ext cx="152280" cy="152640"/>
          </a:xfrm>
          <a:prstGeom prst="irregularSeal2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3581280"/>
            <a:ext cx="761760" cy="762120"/>
          </a:xfrm>
          <a:prstGeom prst="line">
            <a:avLst/>
          </a:prstGeom>
          <a:ln w="93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3581280"/>
            <a:ext cx="152280" cy="9144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4800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z=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3080" y="32004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z=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214280" y="8229600"/>
            <a:ext cx="4691160" cy="337320"/>
            <a:chOff x="1214280" y="8229600"/>
            <a:chExt cx="4691160" cy="337320"/>
          </a:xfrm>
        </p:grpSpPr>
        <p:sp>
          <p:nvSpPr>
            <p:cNvPr id="80" name=""/>
            <p:cNvSpPr/>
            <p:nvPr/>
          </p:nvSpPr>
          <p:spPr>
            <a:xfrm>
              <a:off x="1214280" y="8320320"/>
              <a:ext cx="152280" cy="152280"/>
            </a:xfrm>
            <a:prstGeom prst="irregularSeal2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33160" y="8229600"/>
              <a:ext cx="447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ghtness and B band wavelength of SNe Ia at pe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219320" y="8458200"/>
            <a:ext cx="4300200" cy="337320"/>
            <a:chOff x="1219320" y="8458200"/>
            <a:chExt cx="4300200" cy="337320"/>
          </a:xfrm>
        </p:grpSpPr>
        <p:sp>
          <p:nvSpPr>
            <p:cNvPr id="83" name=""/>
            <p:cNvSpPr/>
            <p:nvPr/>
          </p:nvSpPr>
          <p:spPr>
            <a:xfrm>
              <a:off x="1219320" y="8548560"/>
              <a:ext cx="152280" cy="152280"/>
            </a:xfrm>
            <a:prstGeom prst="irregularSeal2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40360" y="8458200"/>
              <a:ext cx="407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covery brightness to prevent Malmquist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79440" y="838080"/>
            <a:ext cx="634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pernova survey efficiency for SNAP and LS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SST is better at z&lt;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AP is much faster for high-z obje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219320" y="8686800"/>
            <a:ext cx="4701960" cy="337320"/>
            <a:chOff x="1219320" y="8686800"/>
            <a:chExt cx="4701960" cy="337320"/>
          </a:xfrm>
        </p:grpSpPr>
        <p:sp>
          <p:nvSpPr>
            <p:cNvPr id="87" name=""/>
            <p:cNvSpPr/>
            <p:nvPr/>
          </p:nvSpPr>
          <p:spPr>
            <a:xfrm>
              <a:off x="1219320" y="8777160"/>
              <a:ext cx="152280" cy="152640"/>
            </a:xfrm>
            <a:prstGeom prst="irregularSeal2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38200" y="8686800"/>
              <a:ext cx="448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ghtness and V band wavelength of SNe Ia at pe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5040" y="152280"/>
            <a:ext cx="420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Weak Lensing Survey Speed: including effects of galaxy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066680"/>
            <a:ext cx="573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Galaxies must be resolved for use in weak lensing analyses. HDF studies (Gardner &amp; Satyapal, 2000) show that galaxies become </a:t>
            </a:r>
            <a:r>
              <a:rPr b="0" i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much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smaller at faint magnitu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88800" y="1905120"/>
            <a:ext cx="6080400" cy="5464080"/>
            <a:chOff x="388800" y="1905120"/>
            <a:chExt cx="6080400" cy="546408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388800" y="1905120"/>
              <a:ext cx="6080400" cy="54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492000" y="294660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5” see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45960" y="401328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7” see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318924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571640" y="41799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523880" y="3733920"/>
            <a:ext cx="1997280" cy="5806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Median HDF galaxy sizes at 3 magnitu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343400"/>
            <a:ext cx="228600" cy="304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760428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imately 85% of galaxies with r&lt;30 are between r=27 and 30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4440" y="151920"/>
            <a:ext cx="58291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ew 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echniques required to constrain dark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ill be systematics lim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itivity estimates should include reasonable systematics gu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Ne have detected dark energy and faced systema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play a key role in the coming dec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03:34:52Z</dcterms:created>
  <dc:creator>Timothy McKay</dc:creator>
  <dc:description/>
  <dc:language>en-US</dc:language>
  <cp:lastModifiedBy>Timothy McKay</cp:lastModifiedBy>
  <dcterms:modified xsi:type="dcterms:W3CDTF">2001-07-14T05:15:10Z</dcterms:modified>
  <cp:revision>3</cp:revision>
  <dc:subject/>
  <dc:title>Comments on Dark Energy Experiments</dc:title>
</cp:coreProperties>
</file>